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B78-EF19-4A85-A8B2-9BCE8E50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9C2-3442-4C4F-BF4A-4C4DB971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DCF-7E5E-44B2-A672-E973B98F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B80-7BCC-438E-9806-90562307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34C-A211-4351-83D5-71EBEE8E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A95-A75C-4A37-AC34-9FDA2BE1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A53-067D-4730-8D1D-49C71DA7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DA1-39AE-4D58-8ED5-DEEC86F2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0F8-EE54-48EC-8833-5CB38D57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E7A-7AE5-4727-A635-2B05642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A53-4958-4DAF-A77F-8F2D3C0D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3BA-8B97-45D1-B9F8-8318F4D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FD7B-6001-44F3-9ED8-A9BB5B5F5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470320" y="2320920"/>
            <a:ext cx="3495600" cy="32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0" y="29988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¿Qué tiempo hace en España en verano?</a:t>
            </a:r>
            <a:r>
              <a:rPr b="1" lang="en-GB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Neil Jones\My Documents\A Level Spanish\Salud\Calor\prensaCalor7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18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041880" y="5262480"/>
            <a:ext cx="28022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31640" y="390600"/>
            <a:ext cx="4846680" cy="522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6041880" y="5262480"/>
            <a:ext cx="28022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44600" y="0"/>
            <a:ext cx="5470560" cy="602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6041880" y="5262480"/>
            <a:ext cx="28022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1720" y="262080"/>
            <a:ext cx="5099040" cy="572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041880" y="5262480"/>
            <a:ext cx="28022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17600" y="361800"/>
            <a:ext cx="5072040" cy="519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6041880" y="5262480"/>
            <a:ext cx="28022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8:36:19Z</dcterms:created>
  <dc:creator>Owner1</dc:creator>
  <dc:description/>
  <dc:language>en-US</dc:language>
  <cp:lastModifiedBy>Owner1</cp:lastModifiedBy>
  <dcterms:modified xsi:type="dcterms:W3CDTF">2008-12-02T08:41:53Z</dcterms:modified>
  <cp:revision>1</cp:revision>
  <dc:subject/>
  <dc:title>Slide 1</dc:title>
</cp:coreProperties>
</file>